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742-9CB8-444D-8C81-56124CE95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F57-D72E-4C8C-8011-5D593D16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BD3-B727-4E9A-92B7-C6D7DEBE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6280-545A-421B-AF1F-9D3B6C80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F499-BED8-4BF7-8AE6-B28D080E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51FE-0259-41DC-B56B-346F9B60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4061-756D-48EA-BD58-C7E0950A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C252-409D-4250-9F55-A9441AC2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8A9F-3F64-4018-A118-D41C57E8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3E90-842A-4DC5-A3E2-FE177F0B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F0AA-152B-49AE-892F-44C8BF5E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7AF-EAE9-41DA-9646-2D733EE6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D963-500C-499C-B945-4451C214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7F0A-829C-4D24-9BFE-05B13A76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39B5-3E23-4A63-BE7D-E6F18E57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3B04-61C7-452F-B61D-F48490E9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33BC-67BB-42AF-940E-DA46C9CA6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C0BC-8400-40D4-A2AD-C90CAC06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6F5-60AF-41DB-AD79-692DF356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918-28F1-46FD-94B8-6444A46D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1E7-EB21-4610-8B7F-DBA5BAC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D74D-D78B-41B0-9E39-8DB1DDB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FB6-C2C2-470D-977B-43EE783F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94D-4AB9-4FD2-BC02-67797965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BB9-63FC-4EFC-AF01-59D1F055FA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5F2C-436B-43DF-B1D1-074679DBA3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800" spc="-1" strike="noStrike" u="sng">
                <a:solidFill>
                  <a:srgbClr val="dbbd71"/>
                </a:solidFill>
                <a:uFillTx/>
                <a:latin typeface="Arial"/>
              </a:rPr>
              <a:t>MANDATO D’ARRESTO EUROPEO (MAE)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cisione quadro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l Consiglio dell’Unione europea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2002/584/GAI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13 giugno 2002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(terzo pilastro)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ttuata con l. 22 aprile 2005 n. 69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dbbd71"/>
                </a:solidFill>
                <a:uFillTx/>
                <a:latin typeface="Arial"/>
              </a:rPr>
              <a:t>MUTUO RICONOSCIMENTO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er la libera circolazione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lle decisioni giudiziarie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n materia penal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iserva di giurisdizione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(art. 1 comma 3)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Il Ministro della Giustizia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ho un ruolo di mera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sistenza </a:t>
            </a:r>
            <a:r>
              <a:rPr b="0" i="1" lang="en-US" sz="4000" spc="-1" strike="noStrike">
                <a:solidFill>
                  <a:srgbClr val="dbbd71"/>
                </a:solidFill>
                <a:latin typeface="Arial"/>
              </a:rPr>
              <a:t>tecnica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ella trasmissione del mandat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Riduzione del principio della</a:t>
            </a: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doppia incriminazione</a:t>
            </a: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Lista di 32 reati</a:t>
            </a: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Decisione favorevole della Corte d’appello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11:19:44Z</dcterms:created>
  <dc:creator>F.SANTANGELI</dc:creator>
  <dc:description/>
  <dc:language>en-US</dc:language>
  <cp:lastModifiedBy>F.SANTANGELI</cp:lastModifiedBy>
  <dcterms:modified xsi:type="dcterms:W3CDTF">2014-04-04T12:06:17Z</dcterms:modified>
  <cp:revision>2</cp:revision>
  <dc:subject/>
  <dc:title>MANDATO D’ARRESTO EUROPEO (MAE)</dc:title>
</cp:coreProperties>
</file>