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7B7F-4EF2-4D59-8796-9C6E50C20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26E0-A988-4B54-8AC9-D8D47B6E4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EB75-229E-44FC-B9A7-60A8AC029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8F40-BDAE-4719-9B5E-45EEB39EE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DC10A-D5AC-4CCF-82FB-369819339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2F2E5-B995-45E6-B2FA-8749065F6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9F31C-FBC4-4EB9-8793-4B9BC09FA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238B4-691C-4530-A396-FEE4D1232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604E7-870B-4A69-8119-75F648B40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4C7FE-05DC-4ABD-A76C-314437449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52B8E-59BB-4EC9-8E36-E3B5C23F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C80C-0617-48C3-B772-4F16C5558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19840-CA52-4E5B-A5BF-7700C314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369C2-6BFB-444A-BD8B-2F77591C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9AC71-2BFA-4894-9DCF-03A775959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DBFAB-9CD0-4EDF-826F-03C827927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93B49-8247-4EA1-AD3C-8A71074E1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873A-F438-4334-B5AD-B61C3E00C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9C4D-879B-4C0B-ADE3-422001582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16BF-1484-462A-81AB-48EFCC311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8B02-FFEC-47F2-948B-37F131996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CFD8-4AFA-462C-BA6C-BEAC5597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548E-15FE-44B7-8205-A3B3262A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69FB-4B0A-42EF-B62D-4E92C5C1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DBCDE-DAED-4A7F-A2EA-AD27C6F9E23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8A991-8FDA-4FAB-85E1-87187167968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57038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bbd71"/>
                </a:solidFill>
                <a:latin typeface="Arial"/>
              </a:rPr>
              <a:t>Convenzione di assistenza giudiziaria in materia penale</a:t>
            </a:r>
            <a:br>
              <a:rPr sz="4800"/>
            </a:br>
            <a:r>
              <a:rPr b="0" lang="en-US" sz="4800" spc="-1" strike="noStrike">
                <a:solidFill>
                  <a:srgbClr val="dbbd71"/>
                </a:solidFill>
                <a:latin typeface="Arial"/>
              </a:rPr>
              <a:t>tra gli Stati membri dell’UE</a:t>
            </a:r>
            <a:br>
              <a:rPr sz="4800"/>
            </a:br>
            <a:r>
              <a:rPr b="0" lang="en-US" sz="4800" spc="-1" strike="noStrike">
                <a:solidFill>
                  <a:srgbClr val="dbbd71"/>
                </a:solidFill>
                <a:latin typeface="Arial"/>
              </a:rPr>
              <a:t>(adottata il 29/5/00</a:t>
            </a:r>
            <a:br>
              <a:rPr sz="4800"/>
            </a:br>
            <a:r>
              <a:rPr b="0" lang="en-US" sz="4800" spc="-1" strike="noStrike">
                <a:solidFill>
                  <a:srgbClr val="dbbd71"/>
                </a:solidFill>
                <a:latin typeface="Arial"/>
              </a:rPr>
              <a:t>dal Consiglio dei Ministri della giustizia e degli affari interni degli Stati dell’UE)</a:t>
            </a:r>
            <a:br>
              <a:rPr sz="4800"/>
            </a:b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Progetto avviato nel 1996,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urante la presidenza di turno italiana dell’UE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Natura integrativa e non sostitutiva delle precedenti convenzioni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bbd71"/>
                </a:solidFill>
                <a:latin typeface="Arial"/>
              </a:rPr>
              <a:t>Principi di maggior rilievo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933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L’esecuzione delle domande di assistenza giudiziari tra gli Stati membri dovrà avvenire nelle forme, modi e tempi ‘espressamente’ indicati dallo Stato richiedente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(dialogo necessario)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64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dbbd71"/>
                </a:solidFill>
                <a:latin typeface="Arial"/>
              </a:rPr>
              <a:t>MODALIT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  <a:ea typeface="Arial"/>
              </a:rPr>
              <a:t>À</a:t>
            </a:r>
            <a:br>
              <a:rPr sz="4000"/>
            </a:br>
            <a:br>
              <a:rPr sz="4000"/>
            </a:br>
            <a:r>
              <a:rPr b="0" lang="it-IT" sz="4000" spc="-1" strike="noStrike">
                <a:solidFill>
                  <a:srgbClr val="dbbd71"/>
                </a:solidFill>
                <a:latin typeface="Arial"/>
              </a:rPr>
              <a:t>Le modalità di esecuzione della domanda di assistenza giudiziaria</a:t>
            </a:r>
            <a:br>
              <a:rPr sz="4000"/>
            </a:br>
            <a:r>
              <a:rPr b="0" lang="it-IT" sz="4000" spc="-1" strike="noStrike">
                <a:solidFill>
                  <a:srgbClr val="dbbd71"/>
                </a:solidFill>
                <a:latin typeface="Arial"/>
              </a:rPr>
              <a:t>non devono essere 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  <a:ea typeface="Arial"/>
              </a:rPr>
              <a:t>«in conflitto con i principi fondamentali del diritto dello Stato membro richiesto»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dbbd71"/>
                </a:solidFill>
                <a:latin typeface="Arial"/>
                <a:ea typeface="Arial"/>
              </a:rPr>
              <a:t>(condizione di rilievo più teorico che pratico</a:t>
            </a:r>
            <a:r>
              <a:rPr b="0" lang="it-IT" sz="3200" spc="-1" strike="noStrike">
                <a:solidFill>
                  <a:srgbClr val="dbbd71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dbbd71"/>
                </a:solidFill>
                <a:latin typeface="Arial"/>
              </a:rPr>
              <a:t>TEMPI</a:t>
            </a:r>
            <a:br>
              <a:rPr sz="4000"/>
            </a:br>
            <a:br>
              <a:rPr sz="4000"/>
            </a:br>
            <a:r>
              <a:rPr b="0" lang="it-IT" sz="4000" spc="-1" strike="noStrike">
                <a:solidFill>
                  <a:srgbClr val="dbbd71"/>
                </a:solidFill>
                <a:latin typeface="Arial"/>
              </a:rPr>
              <a:t>I tempi richiesti devono essere rispettati 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  <a:ea typeface="Arial"/>
              </a:rPr>
              <a:t>«</a:t>
            </a:r>
            <a:r>
              <a:rPr b="0" lang="it-IT" sz="4000" spc="-1" strike="noStrike">
                <a:solidFill>
                  <a:srgbClr val="dbbd71"/>
                </a:solidFill>
                <a:latin typeface="Arial"/>
              </a:rPr>
              <a:t>nei limiti del possibile</a:t>
            </a:r>
            <a:r>
              <a:rPr b="0" lang="en-US" sz="4000" spc="-1" strike="noStrike">
                <a:solidFill>
                  <a:srgbClr val="dbbd71"/>
                </a:solidFill>
                <a:latin typeface="Arial"/>
                <a:ea typeface="Arial"/>
              </a:rPr>
              <a:t>»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  <a:ea typeface="Arial"/>
              </a:rPr>
              <a:t>e l’autorità richiedente deve specificare le ragioni del termine, mentre quella richiesta le ragioni che eventualmente non consentano di rispettarlo e i nuovi tempi previsti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dbbd71"/>
                </a:solidFill>
                <a:uFillTx/>
                <a:latin typeface="Arial"/>
              </a:rPr>
              <a:t>Comunicazione diretta</a:t>
            </a:r>
            <a:br>
              <a:rPr sz="4000"/>
            </a:br>
            <a:r>
              <a:rPr b="0" lang="it-IT" sz="4000" spc="-1" strike="noStrike">
                <a:solidFill>
                  <a:srgbClr val="dbbd71"/>
                </a:solidFill>
                <a:latin typeface="Arial"/>
              </a:rPr>
              <a:t>fra le autorità nazionali</a:t>
            </a:r>
            <a:br>
              <a:rPr sz="4000"/>
            </a:br>
            <a:r>
              <a:rPr b="0" lang="it-IT" sz="4000" spc="-1" strike="noStrike">
                <a:solidFill>
                  <a:srgbClr val="dbbd71"/>
                </a:solidFill>
                <a:latin typeface="Arial"/>
              </a:rPr>
              <a:t>(regola e non mera possibilità, tranne Regno Unito e Irlanda),</a:t>
            </a:r>
            <a:br>
              <a:rPr sz="4000"/>
            </a:br>
            <a:r>
              <a:rPr b="0" lang="it-IT" sz="4000" spc="-1" strike="noStrike">
                <a:solidFill>
                  <a:srgbClr val="dbbd71"/>
                </a:solidFill>
                <a:latin typeface="Arial"/>
              </a:rPr>
              <a:t>mediante </a:t>
            </a:r>
            <a:r>
              <a:rPr b="0" lang="it-IT" sz="4000" spc="-1" strike="noStrike" u="sng">
                <a:solidFill>
                  <a:srgbClr val="dbbd71"/>
                </a:solidFill>
                <a:uFillTx/>
                <a:latin typeface="Arial"/>
              </a:rPr>
              <a:t>qualsiasi</a:t>
            </a:r>
            <a:r>
              <a:rPr b="0" lang="it-IT" sz="4000" spc="-1" strike="noStrike">
                <a:solidFill>
                  <a:srgbClr val="dbbd71"/>
                </a:solidFill>
                <a:latin typeface="Arial"/>
              </a:rPr>
              <a:t> moderno mezzo di comunicazione scritta, anche di conferma di una precedente comunicazione orale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0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tti da inviare ai singoli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tradotti e a mezzo posta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(salve le ipotesi in cui l’indirizzo sia sconosciuto)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8T08:35:03Z</dcterms:created>
  <dc:creator>F.SANTANGELI</dc:creator>
  <dc:description/>
  <dc:language>en-US</dc:language>
  <cp:lastModifiedBy>F.SANTANGELI</cp:lastModifiedBy>
  <dcterms:modified xsi:type="dcterms:W3CDTF">2014-03-28T10:10:51Z</dcterms:modified>
  <cp:revision>12</cp:revision>
  <dc:subject/>
  <dc:title>Convenzione di assistenza giudiziaria in materia penale tra gli Stati membri dell’UE (adottata il 29/5/00 dal Consiglio dei Ministri della giustizia e degli affari interni degli Stati dell’UE) </dc:title>
</cp:coreProperties>
</file>