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4593-F437-4E2D-90F7-5F5723BB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DDB-8B00-4FF2-8556-F122DFEC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337-BF5B-4433-BE3B-1705C7A8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430F-86A6-441B-BFDE-B6E4BF02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7783-6158-407B-8E59-B95A8499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58F6-5C80-4B5F-95C5-8585EC99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CAB2-A859-4F95-AB09-C7306A17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979F-7E2E-4987-AFF9-30B05B93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F3D8-668C-4CCE-BF10-D777EC87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D3C3-FB4B-49EB-9A0C-A45335F3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1F61-80A4-4856-8015-E209EA2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C3E-22A6-48CC-9B41-5FB5F4E5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E5D4-CE93-4294-9738-3C288711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D10F-2A2A-4E46-A67B-9056BD6A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067D-DA43-4D4D-AFBD-E761480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E220-B5ED-46CC-8476-EDDF5AAA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E0BA-D004-46FB-A1EF-C5781E10A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D771-F237-44A8-8095-C678FC0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C72-55E5-4F2B-A1AC-BB8CB0F0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DE8A-549A-455B-B9CD-33254A3E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7C8-138C-4013-86EB-77D82A9A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92A-57D3-4911-99DF-9C4929F2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4F3-03E6-4A21-9808-BA38B5A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DE5-C9E3-4DF7-BBCD-AC051E38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7E99-AB1C-4227-989D-1449C98FA1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433-46BB-489D-BBC5-760EC41ED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Comunità Economiche Europee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(Trattato di Roma del 1957)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rattato sull’Unione Europea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aastricht 7/2/92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n vigore l’1/11/93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(si passa all’Unione europea e,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fra le questioni d’interesse comune, si menziona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la cooperazione giudiziaria)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Trattato di Amsterdam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firmato il 2/10/97, in vigore il 1/5/99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(il primo tentativo di riformare le istituzioni in vista dell’allargamento;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fra gli obiettivi, la creazione di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uno spazio europeo di libertà sicurezza e giustizia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e il mutuo riconoscimento delle decisioni giudiziali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entre nel lungo periodo l’armonizzazione dei sistemi giudiziari)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Consiglio europeo straordinario di Tàmpere (Finlandia, 15-15/10/99),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fra i capi di Stato e di governo dei 15 Stati allora membri dell’UE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(riunione riservata alle problematiche degli affari interni e della giustizia: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mutuo riconoscimento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come principio fondante della cooperazione, penale e civile;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creazione unità provvisoria di Eurojust)</a:t>
            </a:r>
            <a:r>
              <a:rPr b="1" lang="it-IT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Trattato di Lisbona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 (firmato il 13/12/07, ratif. l. 2/8/08 n. 30,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in vigore l’1/12/09)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(modifica il Trattato sull’Unione europea e il Trattato che istituisce la Comunità europea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e introduce espressamente il mutuo riconoscimento nell’Unione allargata,</a:t>
            </a:r>
            <a:br>
              <a:rPr sz="3600"/>
            </a:br>
            <a:r>
              <a:rPr b="1" lang="it-IT" sz="3600" spc="-1" strike="noStrike">
                <a:solidFill>
                  <a:srgbClr val="feec94"/>
                </a:solidFill>
                <a:latin typeface="Times New Roman"/>
              </a:rPr>
              <a:t>mentre viene abbandonata la logica dei settori distinti per le varie politiche</a:t>
            </a:r>
            <a:br>
              <a:rPr sz="3600"/>
            </a:br>
            <a:r>
              <a:rPr b="1" lang="it-IT" sz="3200" spc="-1" strike="noStrike">
                <a:solidFill>
                  <a:srgbClr val="feec94"/>
                </a:solidFill>
                <a:latin typeface="Times New Roman"/>
              </a:rPr>
              <a:t>(c.d. pilastri)</a:t>
            </a:r>
            <a:r>
              <a:rPr b="1" lang="it-IT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8:19:28Z</dcterms:created>
  <dc:creator>F.SANTANGELI</dc:creator>
  <dc:description/>
  <dc:language>en-US</dc:language>
  <cp:lastModifiedBy>F.SANTANGELI</cp:lastModifiedBy>
  <dcterms:modified xsi:type="dcterms:W3CDTF">2014-03-28T13:45:35Z</dcterms:modified>
  <cp:revision>6</cp:revision>
  <dc:subject/>
  <dc:title>Comunità Economiche Europee (Trattato di Roma del 1957)</dc:title>
</cp:coreProperties>
</file>